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247-17A5-4185-8C1F-D77B7270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152-4A7D-4284-81C3-8024519D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6D1-74A6-4998-A2C2-4A5BF99C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05A-B81A-4308-B8AA-A617AB99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6F83-F6FA-4E04-967D-B0CF31DA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47CA-129A-46FD-B662-32F52A4A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D02C-BA94-4417-BEC2-B700B3CB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BD8C-B17D-491C-BA4F-B1376C26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5B91-6BEC-4522-B201-1F357599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15A9-1C1C-44BC-AF6C-76AAD9BE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1847-8C6A-4238-86DE-5CBD4E69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4CD-E1CA-44B7-9FFB-29AB1E6E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50F-FD44-4192-90F6-0C320F70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AB53-2807-45AE-AF89-95401C66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44B5-30CD-4855-A550-F2DFEC69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5C51-4E4C-4961-866D-9660A641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631F-4F92-4B57-97E8-9061CEC7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E40-FB41-4429-A064-8E08767C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DE0-0394-4F7E-83EA-0DBAD5D9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A2C-4D2B-441D-9634-9D06610C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038-7984-4093-A014-E21E7D47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029-6059-483B-B3BA-A4630877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B44-F0C6-4A15-8B61-FC2D5B09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A79-9D47-48EC-8030-5B1E49AA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4DFF-2B94-4EBA-95CD-C8AE82C994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D54E-C55E-4806-AEC5-37088912A2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, ТУРИЗМА И МОЛОДЕЖНОЙ ПОЛИТИКИ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ДЕПАРТАМЕНТ ПО ФИЗИЧЕСКОЙ КУЛЬТУРЕ И СПОРТУ КРАСНОДАРСКОГО КРАЯ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ЕДЕРАЦИЯ ЛЕГКОЙ АТЛЕТИКИ КРАСНОДАРСКОГО КРАЯ 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ЮНИОРЫ И ЮНИОРКИ ДО 20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-20.05.2012 год.                                  г. Краснодар ст. «КГА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ЮНИОРЫ И ЮНИОРКИ ДО 20 ЛЕТ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971720"/>
          <a:ext cx="7931160" cy="3419280"/>
        </p:xfrm>
        <a:graphic>
          <a:graphicData uri="http://schemas.openxmlformats.org/drawingml/2006/table">
            <a:tbl>
              <a:tblPr/>
              <a:tblGrid>
                <a:gridCol w="4156200"/>
                <a:gridCol w="2050920"/>
                <a:gridCol w="172404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атель мандатной коми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енко М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ин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ева Н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зьян А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шин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цын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оборуд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информации церемониа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цева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кад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2-05-20T06:34:20Z</cp:lastPrinted>
  <dcterms:modified xsi:type="dcterms:W3CDTF">2012-05-20T06:35:03Z</dcterms:modified>
  <cp:revision>16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